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98C-770A-44DD-8305-FF4B04CA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0F1-749F-47C7-9B35-72A4CEA6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6C382-F182-4ADC-84B9-288F78F1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49819-FB51-4CFC-8136-D54C1FF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5A104-95C5-4545-87EC-C973A202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98460-2A5D-4F41-934F-9BA74D8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A6C3A6-DFC5-4FCF-B0F5-48941A8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E432C-D277-4B2D-A37D-44600EB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6376E-C4CA-4832-A3F9-5611E8E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DAAD6-7F11-4A52-B6FD-9267FB71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40ED62-37D7-4361-B25F-7DD44A7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26356-8786-433C-A05B-34145669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0BC-D031-419A-9953-3F531F56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F2BA0-92D5-49DA-BB2B-353953D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D2DB9D-8A8A-4EDE-AC65-B89919EB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F8F61-4AFB-4130-8181-A54C3EB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4EF17-653F-46B1-A223-FB4BFFD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D6692-4830-4AE3-83A1-8D00BE9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03686-0EFD-4F01-8F2B-565C6FE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AE121C-702C-46E4-BF03-CCA0BA2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D2480-0563-4CEE-92D5-87B5729E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71338-C949-4EFA-AFDF-05E7A54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9A5C7E-CFF3-42E4-BC5A-9A4BA46A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EFF-CC87-498B-91D9-2EFD57E8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331FF-93AE-49D8-B295-B05EDC0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DED99A-B298-4527-8ABD-563B8CC3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32C0A5-93E6-4E84-8586-7FDB4FD1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00C0EC-0F16-434E-BE95-90FC1234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F194F6-196E-4D23-83B2-C62F5F8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97DE88-2E68-4944-93C8-89DE26E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671DCC-D000-44A1-9E6C-2E302B3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06BB34-76F7-4BEA-B09A-7BFC71A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E9C18-C23B-49C6-8D78-5EFA4CE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E1B39-5895-4A62-A011-1008DE6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947-3D82-45B1-A137-4081880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B51408-CC7E-41AC-A48A-BEDE18D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F8C282-73DD-4287-ADFA-3ADE1AB0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3BC0BF-A2A5-4E5F-96B1-ACB79AE0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25F488-933F-4F7B-AFE0-DAEF377B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DD7CEF-020C-4166-B762-E21496B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57A9BD-FCE0-4C57-A903-7EA19ED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BDA9F-2090-4849-825E-6AF949B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6F4156-3113-4E95-B059-142E63F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FAD557-292C-475E-94BD-8776B7E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12237C-2887-46D4-A320-FCBDCEF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D647-BFE4-4234-96D6-974D76D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39120F-247A-4350-B020-E423660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7B7CDB-033F-4F43-A059-5F4404E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5CF869-F03F-44DF-A164-2B1403F5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4FC61D-ADFD-47F5-A6AA-F557DB7B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81508D-E83C-4049-97D6-935CF062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8FB67-9B02-45D7-8DB7-E76A3A1C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02FD8-127C-4084-AC07-7A91DD0C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CAC6D0-895D-4ECC-ACAD-72E26B1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6DB619-FB3D-40D0-BA82-1B472CB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BCC306-92D2-4B93-9EEA-F64EB59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74D-B5EA-4469-A456-2EB70D6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5F85A-37FB-44DD-9450-F7685D6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850569-EAE2-4D3B-B532-DD7B9E5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85AB7-DB5D-48A9-9775-47258D6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7D82B-C958-483B-8E0A-9B333A0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134DF0-D810-4A53-B1B5-1DD3179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8CDDE-A405-4584-8650-6356B66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922962-6753-43FD-A2CD-BCCED0C4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593EFF-F8F8-409B-B698-ADAEEC15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652409-E4E3-41A3-9BE0-6913A3B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BD601F-94D2-4A04-B940-7C3D026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DADE-18B5-450D-BF44-061951A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9E735A-3C86-4353-B013-0BA5B2F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D0E837-D074-4E56-9318-B534665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6D902E-93E8-4258-91FD-E407065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540DD9-019F-483A-A761-0F50BD1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AA65E7-8580-4F73-A0BA-E8B9E3D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F106CD-57FD-4ABD-8119-B6C5872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3F0FAA-43AF-4CF8-9359-79E7952D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B55DF4-CF7D-4C7E-AD72-23E14886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EC7BC3-F534-4383-B4A1-BB81CA8B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982-753A-465D-BB1A-9C99622C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2B7A-FDD0-4FE9-9717-9DB8145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7D8C-6BA5-49BF-B22A-7583D7F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CD9-E0ED-44B5-94A5-99F0165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0FD-C8CA-4911-972F-90DBB77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576-FEF3-409D-8883-B196D10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282-978A-49C6-841C-C01EFCF7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AC0-A7D0-4853-900F-CB9A0BB5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A63-BB3C-4E25-9DDD-0491FD67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1E73-8070-49E5-8201-FE117734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80AE-B281-45A8-B956-796B567C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6304-1065-4A2C-9330-976AA3A6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8ACB-44C6-412C-BE60-CD919525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ADF3-2C6C-4590-996D-3CF5670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55C-A174-4D8D-8808-865B41CA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D435-4420-48A5-8766-6F410061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1F1A-AABD-41D5-AE06-9CD7B63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C14F-6D5F-43A0-B109-DDCBD28E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D82D-A5AF-4207-8F42-7C37FD8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8A00-3ADF-4F6C-B32F-FEFED46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E335-53A1-4355-AEAB-296EDBCE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BF59-7063-427B-9873-F600D5A8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9856C-94D1-4C0F-AFAA-EC47B28C3F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74700-25B6-4F1C-90A3-4F4AA9BDC4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4B1BC-B431-432B-BA0A-949B719A3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DE2-9AF6-4D9C-B392-A28AFF46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09FC2-2053-4836-8021-C36E3C6488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7B6C9-0843-449A-9D8B-6536BB3E04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F4A57-90D9-4013-A567-2F2BD846B7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63571-3958-4492-A43C-D579DD0ACE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C86E7-8891-4DD6-B439-92B24A3E3B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F5CB3-5CD3-4D8B-B5DE-7D5F450BF2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896D7-9277-49D9-97AD-8FA6BF3018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E321B-EB18-4250-92FC-9F3C182A3A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1C628-EBE2-4420-96FB-65A07615F7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E4B8F-94E7-4C60-B923-EE9A8F27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813-2080-4E52-A8F7-63528B3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018CB-9D27-4133-BE74-7742135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7025B-C0EE-4166-8655-5B57E45C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14275-999E-4177-BDD8-2F47163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A38BB-977E-40A2-AF09-ED0E9766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EF619-7B96-4452-B461-D054E31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5C416-159B-4382-88CE-7CA31CD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E4095-F2FB-4D1B-9E20-09CBA02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36354-0E60-48BE-A158-9B6619E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2804E-29BD-4440-8113-20A9B1C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80D15-2D94-4C16-917A-2DF70647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010-FFF1-49E1-A311-6605ABE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FBF47-7F11-41C6-B550-A737E321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A147A-C82E-4CC9-B54F-11E5C532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2A5AB-7DCE-40E6-A702-E9AC08A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2DCB1-F7B8-4AE2-A16B-31B34FF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59C54-AB8B-4A7B-BC31-7C641D4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EDE66-A8FF-4402-9DE5-76CCEC3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5C470-465C-452A-8406-1C707BD3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2AD7C-9EA9-484F-8C43-517F5FE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09DA2-ADA5-4FB8-905F-127FEC7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38E15-19CD-43B6-A068-3C364A8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A44-D3DF-4A5C-A79F-7D867DB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5C20B-5F04-45DD-BC01-5063A812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13026-DF6C-4066-9CD4-F0CA741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98572-CEEE-4CBA-9019-4B1D644E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D3037-ABAC-4E8F-84B6-E4E1D005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F765F-BA50-483D-AEC1-3FF6939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539F1-0281-4D30-8897-75E4F0DC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41892-6BFD-422B-8F7D-921758A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202EF-DD36-4839-9C0E-B87A77D6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205C3-F27F-49AB-B7E5-E480C899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A39C2-19E5-46C6-A831-FFB89B4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9F8-A7B3-4D32-BDE8-08C1992A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9BBBF-1777-40D1-B308-1C36575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BF4AD-E987-4C69-B733-03D94FB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8A7DD-0B46-4DB9-AEC0-D2EACBF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D818E-CB94-42C8-9159-AC83949E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DC194-CDB6-42AC-96F4-E72E5066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122D3-2AA6-43A3-8089-16D25206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65199-C141-4D10-BBDF-C3622D4F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9329D-7FC2-4E1E-90DE-74A8B1F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AF6A9-22A1-4500-9E91-2B2AA157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2B322-1DFA-4291-AD30-CF82371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675-B437-4797-8477-3046A7D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EBA2A-95AE-4D6A-9941-1718B16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4232D-BB3E-4E9F-BC5C-A47196A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904B0-B1E3-4DD2-A250-FCFF0F2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920C1-38CF-47CA-BAB9-A4C7CE1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E4437C-479E-474A-B4D8-5B72E35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CBC4D-1BD5-4376-AF76-A487FF8B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9759D-82AE-419C-B0BF-EAB31B1A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1FC4D-37AA-4EC5-B92D-C5FA504A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75435-1494-4AD2-93A5-FC5CAFE2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10071-0FB8-4A94-8EE5-248CFE2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E1D-2DB7-485C-B78D-FF05CDC60E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9082-42A8-4AEC-94EB-EF0B475A8B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2FA-8D29-442A-A988-1E436648DD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11C-57EA-41DA-AB84-A69A89230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DD79-2CB3-4564-AC8A-DAF007A574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FC9-3125-4CB6-B5D9-A06D58542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75B-5CBA-477D-9BFD-A6FB3303BE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547-2891-45BD-A3A7-1BD6D65D57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53D-5A6B-4823-A685-0E92351578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1DC5-A8C0-4AA2-846F-DCDCEF5C47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65D-10FE-414E-98EF-10EB358A21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7606-C3BA-44A7-B7C4-EF31596E48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705C-365E-4010-A711-920F450BBE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FC94-07E6-4ABF-8781-171E9267D0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0B2-51FB-4AEE-BF1D-30AE1F93C7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04AB-4E94-4B02-B99E-4D42AD5E5F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1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170-3FC7-48A9-BD2F-511EB4B25F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2C00-8DA6-4211-9F02-6914B70BD6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FBA9-27F8-4F9B-8BFF-E9EDFE8DF4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77C-C574-4792-914C-271F10A063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6A9-91B5-4C0F-B796-CEE19F2235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5AA-8260-4E5A-984B-919D377087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6C7-F0D4-4752-B886-7CAA8A27F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CBF-F287-44A0-B859-6ECA9E28812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E5A3-232E-404B-B04E-CCC42145DF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E1B-B002-4B1C-87B9-0CD137EFB7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90B-377E-4AB8-AD58-D0C98203A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142800" y="4068720"/>
            <a:ext cx="51339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突发事件巧应对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——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居安思危防盗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 rot="21240000">
            <a:off x="4043520" y="826920"/>
            <a:ext cx="4779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Curlz MT"/>
              </a:rPr>
              <a:t>安全教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Kids (3)"/>
          <p:cNvPicPr/>
          <p:nvPr/>
        </p:nvPicPr>
        <p:blipFill>
          <a:blip r:embed="rId1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1" descr="康轩标志.png"/>
          <p:cNvPicPr/>
          <p:nvPr/>
        </p:nvPicPr>
        <p:blipFill>
          <a:blip r:embed="rId2"/>
          <a:stretch/>
        </p:blipFill>
        <p:spPr>
          <a:xfrm>
            <a:off x="171360" y="152280"/>
            <a:ext cx="127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8" descr=""/>
          <p:cNvPicPr/>
          <p:nvPr/>
        </p:nvPicPr>
        <p:blipFill>
          <a:blip r:embed="rId1"/>
          <a:srcRect l="11713" t="10219" r="27522" b="39954"/>
          <a:stretch/>
        </p:blipFill>
        <p:spPr>
          <a:xfrm>
            <a:off x="457200" y="0"/>
            <a:ext cx="82296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8"/>
          <p:cNvGrpSpPr/>
          <p:nvPr/>
        </p:nvGrpSpPr>
        <p:grpSpPr>
          <a:xfrm>
            <a:off x="673200" y="290520"/>
            <a:ext cx="7859160" cy="4928400"/>
            <a:chOff x="673200" y="290520"/>
            <a:chExt cx="7859160" cy="4928400"/>
          </a:xfrm>
        </p:grpSpPr>
        <p:pic>
          <p:nvPicPr>
            <p:cNvPr id="662" name="Picture 6" descr=""/>
            <p:cNvPicPr/>
            <p:nvPr/>
          </p:nvPicPr>
          <p:blipFill>
            <a:blip r:embed="rId1"/>
            <a:srcRect l="11713" t="58908" r="27522" b="5896"/>
            <a:stretch/>
          </p:blipFill>
          <p:spPr>
            <a:xfrm>
              <a:off x="673200" y="1336320"/>
              <a:ext cx="7859160" cy="38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7" descr=""/>
            <p:cNvPicPr/>
            <p:nvPr/>
          </p:nvPicPr>
          <p:blipFill>
            <a:blip r:embed="rId2"/>
            <a:srcRect l="11713" t="10219" r="27522" b="80300"/>
            <a:stretch/>
          </p:blipFill>
          <p:spPr>
            <a:xfrm>
              <a:off x="673200" y="290520"/>
              <a:ext cx="7859160" cy="104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盗贼最易得手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街小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路人容易放松警觉而且大街小巷地形复杂盗贼得手后容易逃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4"/>
          <p:cNvSpPr txBox="1"/>
          <p:nvPr/>
        </p:nvSpPr>
        <p:spPr>
          <a:xfrm>
            <a:off x="684360" y="2050920"/>
            <a:ext cx="80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为什么盗贼喜欢在大街小巷作案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张站在路边接人，迟迟等不到人，正准备打电话询问情况。突然，后方冲出一辆摩托车，一把夺过小张手上的手机，扬长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WordArt 11"/>
          <p:cNvSpPr txBox="1"/>
          <p:nvPr/>
        </p:nvSpPr>
        <p:spPr>
          <a:xfrm>
            <a:off x="755640" y="2832120"/>
            <a:ext cx="34225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飞车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670" name="Group 15"/>
          <p:cNvGrpSpPr/>
          <p:nvPr/>
        </p:nvGrpSpPr>
        <p:grpSpPr>
          <a:xfrm>
            <a:off x="4643280" y="2268360"/>
            <a:ext cx="3673800" cy="2808360"/>
            <a:chOff x="4643280" y="2268360"/>
            <a:chExt cx="3673800" cy="2808360"/>
          </a:xfrm>
        </p:grpSpPr>
        <p:pic>
          <p:nvPicPr>
            <p:cNvPr id="671" name="Picture 13" descr="t01cb3329a2f82bb578"/>
            <p:cNvPicPr/>
            <p:nvPr/>
          </p:nvPicPr>
          <p:blipFill>
            <a:blip r:embed="rId1"/>
            <a:stretch/>
          </p:blipFill>
          <p:spPr>
            <a:xfrm>
              <a:off x="4643280" y="2268360"/>
              <a:ext cx="36738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14"/>
            <p:cNvSpPr/>
            <p:nvPr/>
          </p:nvSpPr>
          <p:spPr>
            <a:xfrm>
              <a:off x="6896160" y="4585680"/>
              <a:ext cx="142056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小锦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很多人手机绑定微信、支付宝、网银，一旦丢失，后果不堪设想！当发现手机丢失后，立即办理下列手续，可减少经济损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步骤：①挂失手机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冻结网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手机绑定支付宝立即挂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冻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微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改微博、微信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支付宝等密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微信等软件告知亲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ldpi_756395_2b69d4a90-9272-4669-8a54-726ef344587b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414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507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盗贼常用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街头验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事发附近，一名盗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意掉钱，另一名同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来拾起。接着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来质问钱是否被受害者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捡到，并提出“验包”检查。在检查过程中，两人会伺机偷抢钱包。当发现没有现金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“怀疑”受害者已经把钱存入银行，要求验卡。当受害者查询卡内余额时，盗贼们暗暗记下密码，然后伺机偷卡或者换卡，最后提取现金。所以，当遇上验包验卡的要求时，千万不要轻易让人检查，应提出报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18920"/>
            <a:ext cx="85075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盗贼常用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假提醒，真偷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名盗贼在车主临时停靠时敲窗提醒车胎没气等情况。趁着车主下车或者探出头查看时，另一名盗贼就会从另一侧拉开车门进行行窃。因此驾车出行时，一定要关好车门和车窗。下车时，应随身携带贵重物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5" descr="289080140926162456"/>
          <p:cNvPicPr/>
          <p:nvPr/>
        </p:nvPicPr>
        <p:blipFill>
          <a:blip r:embed="rId1"/>
          <a:srcRect l="4632" t="9147" r="9167" b="7071"/>
          <a:stretch/>
        </p:blipFill>
        <p:spPr>
          <a:xfrm>
            <a:off x="3995640" y="0"/>
            <a:ext cx="3672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507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盗贼常用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成年人参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你在路上遇到卖花或者问路的未成年人时，若他们拉扯你的衣物，表示求助，或在你专心与对方交涉时，身边突然有人故意挤碰，请注意自己的随身财物，当心盗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校园防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115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宿舍防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防盗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管好自己的财物。贵重物品放入带锁的柜子，并随手上锁。暂时不用的现金存入银行，银行卡加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园卡随身携带，并且不一次性存入大笔现金。丢失校园卡后，立即到网站、办卡处或充值点进行挂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最后离开宿舍，要锁紧门窗。夜晚就寝前检查门窗，养成睡前关窗锁门的良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随意留宿外来人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形迹可疑的陌生人要提高警惕，留心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管好自己的钥匙，不要随意放置或轻易外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5"/>
          <p:cNvGrpSpPr/>
          <p:nvPr/>
        </p:nvGrpSpPr>
        <p:grpSpPr>
          <a:xfrm>
            <a:off x="122400" y="3060720"/>
            <a:ext cx="4233600" cy="2405160"/>
            <a:chOff x="122400" y="3060720"/>
            <a:chExt cx="4233600" cy="2405160"/>
          </a:xfrm>
        </p:grpSpPr>
        <p:pic>
          <p:nvPicPr>
            <p:cNvPr id="688" name="Picture 11" descr="U11284P115DT20141231102939"/>
            <p:cNvPicPr/>
            <p:nvPr/>
          </p:nvPicPr>
          <p:blipFill>
            <a:blip r:embed="rId1"/>
            <a:stretch/>
          </p:blipFill>
          <p:spPr>
            <a:xfrm>
              <a:off x="122400" y="3060720"/>
              <a:ext cx="4233600" cy="24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Text Box 12"/>
            <p:cNvSpPr/>
            <p:nvPr/>
          </p:nvSpPr>
          <p:spPr>
            <a:xfrm>
              <a:off x="1940760" y="3203280"/>
              <a:ext cx="13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偷电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14"/>
          <p:cNvGrpSpPr/>
          <p:nvPr/>
        </p:nvGrpSpPr>
        <p:grpSpPr>
          <a:xfrm>
            <a:off x="4533840" y="293760"/>
            <a:ext cx="4152960" cy="2171520"/>
            <a:chOff x="4533840" y="293760"/>
            <a:chExt cx="4152960" cy="2171520"/>
          </a:xfrm>
        </p:grpSpPr>
        <p:pic>
          <p:nvPicPr>
            <p:cNvPr id="691" name="Picture 7" descr="1584620_786590"/>
            <p:cNvPicPr/>
            <p:nvPr/>
          </p:nvPicPr>
          <p:blipFill>
            <a:blip r:embed="rId2"/>
            <a:srcRect l="0" t="0" r="0" b="7133"/>
            <a:stretch/>
          </p:blipFill>
          <p:spPr>
            <a:xfrm>
              <a:off x="4533840" y="293760"/>
              <a:ext cx="415296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13"/>
            <p:cNvSpPr/>
            <p:nvPr/>
          </p:nvSpPr>
          <p:spPr>
            <a:xfrm>
              <a:off x="6397920" y="29376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偷手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8"/>
          <p:cNvGrpSpPr/>
          <p:nvPr/>
        </p:nvGrpSpPr>
        <p:grpSpPr>
          <a:xfrm>
            <a:off x="4713120" y="2548080"/>
            <a:ext cx="3409920" cy="3000240"/>
            <a:chOff x="4713120" y="2548080"/>
            <a:chExt cx="3409920" cy="3000240"/>
          </a:xfrm>
        </p:grpSpPr>
        <p:pic>
          <p:nvPicPr>
            <p:cNvPr id="694" name="Picture 9" descr="Img335382018"/>
            <p:cNvPicPr/>
            <p:nvPr/>
          </p:nvPicPr>
          <p:blipFill>
            <a:blip r:embed="rId3"/>
            <a:stretch/>
          </p:blipFill>
          <p:spPr>
            <a:xfrm>
              <a:off x="4713120" y="2548080"/>
              <a:ext cx="340992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16"/>
            <p:cNvSpPr/>
            <p:nvPr/>
          </p:nvSpPr>
          <p:spPr>
            <a:xfrm>
              <a:off x="6729120" y="4788000"/>
              <a:ext cx="139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偷单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731880" y="307800"/>
            <a:ext cx="3624120" cy="2240280"/>
            <a:chOff x="731880" y="307800"/>
            <a:chExt cx="3624120" cy="2240280"/>
          </a:xfrm>
        </p:grpSpPr>
        <p:pic>
          <p:nvPicPr>
            <p:cNvPr id="697" name="Picture 5" descr="t018364f7b5f5a0ccf9"/>
            <p:cNvPicPr/>
            <p:nvPr/>
          </p:nvPicPr>
          <p:blipFill>
            <a:blip r:embed="rId4"/>
            <a:stretch/>
          </p:blipFill>
          <p:spPr>
            <a:xfrm>
              <a:off x="731880" y="307800"/>
              <a:ext cx="3624120" cy="22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 Box 19"/>
            <p:cNvSpPr/>
            <p:nvPr/>
          </p:nvSpPr>
          <p:spPr>
            <a:xfrm>
              <a:off x="1987560" y="307800"/>
              <a:ext cx="10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偷财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644400" y="1035000"/>
            <a:ext cx="5222520" cy="865080"/>
            <a:chOff x="644400" y="1035000"/>
            <a:chExt cx="5222520" cy="865080"/>
          </a:xfrm>
        </p:grpSpPr>
        <p:grpSp>
          <p:nvGrpSpPr>
            <p:cNvPr id="585" name="Group 27"/>
            <p:cNvGrpSpPr/>
            <p:nvPr/>
          </p:nvGrpSpPr>
          <p:grpSpPr>
            <a:xfrm>
              <a:off x="644400" y="1035000"/>
              <a:ext cx="955080" cy="865080"/>
              <a:chOff x="644400" y="1035000"/>
              <a:chExt cx="955080" cy="865080"/>
            </a:xfrm>
          </p:grpSpPr>
          <p:sp>
            <p:nvSpPr>
              <p:cNvPr id="586" name="AutoShape 3"/>
              <p:cNvSpPr/>
              <p:nvPr/>
            </p:nvSpPr>
            <p:spPr>
              <a:xfrm>
                <a:off x="644400" y="1035000"/>
                <a:ext cx="955080" cy="865080"/>
              </a:xfrm>
              <a:prstGeom prst="hexagon">
                <a:avLst>
                  <a:gd name="adj" fmla="val 27601"/>
                  <a:gd name="vf" fmla="val 115470"/>
                </a:avLst>
              </a:prstGeom>
              <a:solidFill>
                <a:srgbClr val="ff660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7" name="Picture 9" descr="1"/>
              <p:cNvPicPr/>
              <p:nvPr/>
            </p:nvPicPr>
            <p:blipFill>
              <a:blip r:embed="rId1"/>
              <a:stretch/>
            </p:blipFill>
            <p:spPr>
              <a:xfrm>
                <a:off x="784800" y="1112760"/>
                <a:ext cx="68976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" name="Line 13"/>
            <p:cNvSpPr/>
            <p:nvPr/>
          </p:nvSpPr>
          <p:spPr>
            <a:xfrm>
              <a:off x="1605960" y="1477800"/>
              <a:ext cx="723600" cy="0"/>
            </a:xfrm>
            <a:prstGeom prst="line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4"/>
            <p:cNvSpPr/>
            <p:nvPr/>
          </p:nvSpPr>
          <p:spPr>
            <a:xfrm>
              <a:off x="2329920" y="1339560"/>
              <a:ext cx="3537000" cy="28908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、认识盗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30"/>
          <p:cNvGrpSpPr/>
          <p:nvPr/>
        </p:nvGrpSpPr>
        <p:grpSpPr>
          <a:xfrm>
            <a:off x="1424160" y="1981080"/>
            <a:ext cx="4907880" cy="741600"/>
            <a:chOff x="1424160" y="1981080"/>
            <a:chExt cx="4907880" cy="741600"/>
          </a:xfrm>
        </p:grpSpPr>
        <p:sp>
          <p:nvSpPr>
            <p:cNvPr id="591" name="AutoShape 2"/>
            <p:cNvSpPr/>
            <p:nvPr/>
          </p:nvSpPr>
          <p:spPr>
            <a:xfrm>
              <a:off x="1424160" y="1981080"/>
              <a:ext cx="896400" cy="741600"/>
            </a:xfrm>
            <a:prstGeom prst="hexagon">
              <a:avLst>
                <a:gd name="adj" fmla="val 30218"/>
                <a:gd name="vf" fmla="val 115470"/>
              </a:avLst>
            </a:prstGeom>
            <a:solidFill>
              <a:srgbClr val="99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0" descr="2"/>
            <p:cNvPicPr/>
            <p:nvPr/>
          </p:nvPicPr>
          <p:blipFill>
            <a:blip r:embed="rId2"/>
            <a:stretch/>
          </p:blipFill>
          <p:spPr>
            <a:xfrm>
              <a:off x="1542600" y="2104920"/>
              <a:ext cx="686880" cy="4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Line 15"/>
            <p:cNvSpPr/>
            <p:nvPr/>
          </p:nvSpPr>
          <p:spPr>
            <a:xfrm>
              <a:off x="2326680" y="2354400"/>
              <a:ext cx="677880" cy="0"/>
            </a:xfrm>
            <a:prstGeom prst="line">
              <a:avLst/>
            </a:prstGeom>
            <a:ln cap="rnd" w="936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6"/>
            <p:cNvSpPr/>
            <p:nvPr/>
          </p:nvSpPr>
          <p:spPr>
            <a:xfrm>
              <a:off x="3012480" y="2235960"/>
              <a:ext cx="3319560" cy="246600"/>
            </a:xfrm>
            <a:custGeom>
              <a:avLst/>
              <a:gdLst>
                <a:gd name="textAreaLeft" fmla="*/ 0 w 3319560"/>
                <a:gd name="textAreaRight" fmla="*/ 3319920 w 33195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二、校园防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1"/>
          <p:cNvGrpSpPr/>
          <p:nvPr/>
        </p:nvGrpSpPr>
        <p:grpSpPr>
          <a:xfrm>
            <a:off x="1949400" y="2908440"/>
            <a:ext cx="4860720" cy="747720"/>
            <a:chOff x="1949400" y="2908440"/>
            <a:chExt cx="4860720" cy="747720"/>
          </a:xfrm>
        </p:grpSpPr>
        <p:sp>
          <p:nvSpPr>
            <p:cNvPr id="596" name="AutoShape 11"/>
            <p:cNvSpPr/>
            <p:nvPr/>
          </p:nvSpPr>
          <p:spPr>
            <a:xfrm>
              <a:off x="1949400" y="2908440"/>
              <a:ext cx="893880" cy="747720"/>
            </a:xfrm>
            <a:prstGeom prst="hexagon">
              <a:avLst>
                <a:gd name="adj" fmla="val 29887"/>
                <a:gd name="vf" fmla="val 115470"/>
              </a:avLst>
            </a:prstGeom>
            <a:solidFill>
              <a:srgbClr val="3399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12" descr="3"/>
            <p:cNvPicPr/>
            <p:nvPr/>
          </p:nvPicPr>
          <p:blipFill>
            <a:blip r:embed="rId3"/>
            <a:stretch/>
          </p:blipFill>
          <p:spPr>
            <a:xfrm>
              <a:off x="2202480" y="2983680"/>
              <a:ext cx="4237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Line 17"/>
            <p:cNvSpPr/>
            <p:nvPr/>
          </p:nvSpPr>
          <p:spPr>
            <a:xfrm>
              <a:off x="2823840" y="3287520"/>
              <a:ext cx="677160" cy="1080"/>
            </a:xfrm>
            <a:prstGeom prst="line">
              <a:avLst/>
            </a:prstGeom>
            <a:ln cap="rnd" w="9360">
              <a:solidFill>
                <a:srgbClr val="33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6"/>
            <p:cNvSpPr/>
            <p:nvPr/>
          </p:nvSpPr>
          <p:spPr>
            <a:xfrm>
              <a:off x="3501000" y="3169440"/>
              <a:ext cx="3309120" cy="248400"/>
            </a:xfrm>
            <a:custGeom>
              <a:avLst/>
              <a:gdLst>
                <a:gd name="textAreaLeft" fmla="*/ 0 w 3309120"/>
                <a:gd name="textAreaRight" fmla="*/ 3309480 w 330912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三、住宅防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4"/>
          <p:cNvGrpSpPr/>
          <p:nvPr/>
        </p:nvGrpSpPr>
        <p:grpSpPr>
          <a:xfrm>
            <a:off x="2627280" y="3789360"/>
            <a:ext cx="4970160" cy="853560"/>
            <a:chOff x="2627280" y="3789360"/>
            <a:chExt cx="4970160" cy="853560"/>
          </a:xfrm>
        </p:grpSpPr>
        <p:sp>
          <p:nvSpPr>
            <p:cNvPr id="601" name="AutoShape 18"/>
            <p:cNvSpPr/>
            <p:nvPr/>
          </p:nvSpPr>
          <p:spPr>
            <a:xfrm>
              <a:off x="4086360" y="4043520"/>
              <a:ext cx="3511080" cy="343440"/>
            </a:xfrm>
            <a:custGeom>
              <a:avLst/>
              <a:gdLst>
                <a:gd name="textAreaLeft" fmla="*/ 0 w 3511080"/>
                <a:gd name="textAreaRight" fmla="*/ 3511440 w 351108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四、预防抢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23" descr="221_c9qPBKPJpk9zLkkBG9qQ_square"/>
            <p:cNvPicPr/>
            <p:nvPr/>
          </p:nvPicPr>
          <p:blipFill>
            <a:blip r:embed="rId4"/>
            <a:stretch/>
          </p:blipFill>
          <p:spPr>
            <a:xfrm>
              <a:off x="2627280" y="3789360"/>
              <a:ext cx="722880" cy="8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Line 13"/>
            <p:cNvSpPr/>
            <p:nvPr/>
          </p:nvSpPr>
          <p:spPr>
            <a:xfrm>
              <a:off x="3368520" y="4215960"/>
              <a:ext cx="717480" cy="0"/>
            </a:xfrm>
            <a:prstGeom prst="line">
              <a:avLst/>
            </a:prstGeom>
            <a:ln cap="rnd" w="9360">
              <a:solidFill>
                <a:srgbClr val="ff99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Picture 8" descr="1"/>
          <p:cNvPicPr/>
          <p:nvPr/>
        </p:nvPicPr>
        <p:blipFill>
          <a:blip r:embed="rId5"/>
          <a:stretch/>
        </p:blipFill>
        <p:spPr>
          <a:xfrm>
            <a:off x="5575320" y="0"/>
            <a:ext cx="3587760" cy="8683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49"/>
          <p:cNvGrpSpPr/>
          <p:nvPr/>
        </p:nvGrpSpPr>
        <p:grpSpPr>
          <a:xfrm>
            <a:off x="3267000" y="4643280"/>
            <a:ext cx="4833720" cy="720360"/>
            <a:chOff x="3267000" y="4643280"/>
            <a:chExt cx="4833720" cy="720360"/>
          </a:xfrm>
        </p:grpSpPr>
        <p:pic>
          <p:nvPicPr>
            <p:cNvPr id="606" name="Picture 26" descr="506_wYyeavPp2E76vVSH2l68_square"/>
            <p:cNvPicPr/>
            <p:nvPr/>
          </p:nvPicPr>
          <p:blipFill>
            <a:blip r:embed="rId6"/>
            <a:stretch/>
          </p:blipFill>
          <p:spPr>
            <a:xfrm>
              <a:off x="3267000" y="4643280"/>
              <a:ext cx="61524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Line 13"/>
            <p:cNvSpPr/>
            <p:nvPr/>
          </p:nvSpPr>
          <p:spPr>
            <a:xfrm>
              <a:off x="3882240" y="5004720"/>
              <a:ext cx="716400" cy="0"/>
            </a:xfrm>
            <a:prstGeom prst="line">
              <a:avLst/>
            </a:prstGeom>
            <a:ln cap="rnd" w="93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8"/>
            <p:cNvSpPr/>
            <p:nvPr/>
          </p:nvSpPr>
          <p:spPr>
            <a:xfrm>
              <a:off x="4598640" y="4814640"/>
              <a:ext cx="3502080" cy="378000"/>
            </a:xfrm>
            <a:custGeom>
              <a:avLst/>
              <a:gdLst>
                <a:gd name="textAreaLeft" fmla="*/ 0 w 3502080"/>
                <a:gd name="textAreaRight" fmla="*/ 3502440 w 3502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0" y="0"/>
                  </a:lnTo>
                  <a:lnTo>
                    <a:pt x="21600" y="10800"/>
                  </a:lnTo>
                  <a:lnTo>
                    <a:pt x="1912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936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五、被盗被抢的应急措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校园防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115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宿舍防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盗窃后的应对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旦发生盗窃案件，首先需要冷静应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发现寝室门、抽屉、箱子的锁被撬或被翻动，应立即报告学校保卫部门或报警，并保护好现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遇到犯罪分子正在作案，首先保护自身安全，再借机报告学校保卫部门或报警，配合学校保卫人员或警察进行围追堵截，力争抓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发现存折、银行卡、汇款单等被盗，应尽快到银行或邮局办理挂失手续，并积极向负责侦查破案的公安、保卫部门提供情况，反映线索，配合破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8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出休闲逛街使人心态放松，但也容易失窃。应注意以下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商场、餐厅等人多拥挤的地方，不在外衣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裤子内放置手机、钱包等贵重物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挑选商品、试衣服时，将贵重物品集中归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身携带或放在看得见的地方。外出购物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量不使用背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餐厅吃饭时，条件允许时最好使用椅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包放在旁边空椅上，包带最好缠绕椅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购买大额物品，可采用刷卡灯形式付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多杂乱地方不要翻点现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出租车上车记住车牌，下车清点随身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微软雅黑"/>
              </a:rPr>
              <a:t>小锦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7" descr="ldpi_756395_2b69d4a90-9272-4669-8a54-726ef344587b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414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1" descr="20095813590443"/>
          <p:cNvPicPr/>
          <p:nvPr/>
        </p:nvPicPr>
        <p:blipFill>
          <a:blip r:embed="rId2"/>
          <a:stretch/>
        </p:blipFill>
        <p:spPr>
          <a:xfrm>
            <a:off x="6707160" y="1754280"/>
            <a:ext cx="21859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7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7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7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校园防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928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教室、图书馆等公共场所防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衣服不随意搭在椅子或桌子上，以防小偷“顺手牵羊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暂时离开公共场所，应将贵重物品带走或交给同学保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要随身携带大量现金及贵重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形迹可疑人员要提高警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6"/>
          <p:cNvSpPr txBox="1"/>
          <p:nvPr/>
        </p:nvSpPr>
        <p:spPr>
          <a:xfrm>
            <a:off x="2916360" y="3746520"/>
            <a:ext cx="446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不要因为从未被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被抢而放松警惕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给盗贼可乘之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9" name="WordArt 9"/>
          <p:cNvSpPr txBox="1"/>
          <p:nvPr/>
        </p:nvSpPr>
        <p:spPr>
          <a:xfrm>
            <a:off x="611280" y="3924360"/>
            <a:ext cx="208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提示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住宅防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宅一旦被盗，影响极大。盗贼一般会先探虚实，设法入室盗窃。要有防范意识，做好防盗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提防盗贼撬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注意隔壁空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提高家庭防范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换房要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核查家庭服务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阳台绿化防盗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tutcL3R1dGNpbWcwMS50YW9iYW9jZG4uY29tL2Jhby91cGxvYWRlZC9pMS8xMTc3MTAyMDkzNzk1NjkwMi9UMWNDUUpYY2xiWFhYWFhYWFhfISEwLWl0ZW1fcGljLmpwZw=="/>
          <p:cNvPicPr/>
          <p:nvPr/>
        </p:nvPicPr>
        <p:blipFill>
          <a:blip r:embed="rId1"/>
          <a:stretch/>
        </p:blipFill>
        <p:spPr>
          <a:xfrm>
            <a:off x="4859280" y="2627280"/>
            <a:ext cx="354348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预防抢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1156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预防入室抢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防止陌生人尾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身女性、老人、儿童在家要反锁房门，对陌生人要查明身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里不宜存放过多现金，贵重物品应分散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aa35133c8fc0192dc9c2036276e862e3"/>
          <p:cNvPicPr/>
          <p:nvPr/>
        </p:nvPicPr>
        <p:blipFill>
          <a:blip r:embed="rId1"/>
          <a:stretch/>
        </p:blipFill>
        <p:spPr>
          <a:xfrm>
            <a:off x="755640" y="3395520"/>
            <a:ext cx="4060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8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9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预防抢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预防行走过程中被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带大量现金或贵重物品应结伴而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走夜路应准备防袭击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到周围有可疑人员应立即站定背靠掩护物或进入附件商店等躲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认无法脱身应大声呼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5" descr="pr_ppazjqixrtwbbooabbjg2q==_1435057303_42863583"/>
          <p:cNvPicPr/>
          <p:nvPr/>
        </p:nvPicPr>
        <p:blipFill>
          <a:blip r:embed="rId1"/>
          <a:stretch/>
        </p:blipFill>
        <p:spPr>
          <a:xfrm>
            <a:off x="4859280" y="3203640"/>
            <a:ext cx="40435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8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预防抢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预防银行存取款被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留意身边是否出现可疑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密码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取款后避免行走僻静道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取大额现款时最好能两人以上或请银行派人护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1011285ssk1331yvctoz1s"/>
          <p:cNvPicPr/>
          <p:nvPr/>
        </p:nvPicPr>
        <p:blipFill>
          <a:blip r:embed="rId1"/>
          <a:stretch/>
        </p:blipFill>
        <p:spPr>
          <a:xfrm>
            <a:off x="4643280" y="3214800"/>
            <a:ext cx="4253040" cy="29048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1773360519"/>
          <p:cNvPicPr/>
          <p:nvPr/>
        </p:nvPicPr>
        <p:blipFill>
          <a:blip r:embed="rId2"/>
          <a:stretch/>
        </p:blipFill>
        <p:spPr>
          <a:xfrm>
            <a:off x="1116000" y="3214800"/>
            <a:ext cx="30258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8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预防抢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507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预防飞车抢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避免携带大量现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步行不要过于靠近车行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拎包要放胸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靠近的危险要有提高防范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1453278919528830"/>
          <p:cNvPicPr/>
          <p:nvPr/>
        </p:nvPicPr>
        <p:blipFill>
          <a:blip r:embed="rId1"/>
          <a:stretch/>
        </p:blipFill>
        <p:spPr>
          <a:xfrm>
            <a:off x="5327640" y="1595520"/>
            <a:ext cx="381636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10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预防抢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5075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预防飞车抢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夜间独自骑车出行，要将包绕在车把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遇到自行车后轮被人破坏需下车排除故障时，财物要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遇到有人抢包，应第一时间松手，避免更大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6" descr="001d7d59ac2b105a4e9a12"/>
          <p:cNvPicPr/>
          <p:nvPr/>
        </p:nvPicPr>
        <p:blipFill>
          <a:blip r:embed="rId1"/>
          <a:stretch/>
        </p:blipFill>
        <p:spPr>
          <a:xfrm>
            <a:off x="5154480" y="3348000"/>
            <a:ext cx="3810240" cy="24573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t01493e32240e75183b"/>
          <p:cNvPicPr/>
          <p:nvPr/>
        </p:nvPicPr>
        <p:blipFill>
          <a:blip r:embed="rId2"/>
          <a:stretch/>
        </p:blipFill>
        <p:spPr>
          <a:xfrm>
            <a:off x="1042920" y="3348000"/>
            <a:ext cx="3888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被盗被抢的应急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被盗的应急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旦发现财物被盗，应立即报警，并挂失被盗手机卡、银行卡等。若发生入室盗窃案件，不要破坏现场，待警察来到后再清点损失财物。若手机被盗，第一时间应拨打自己手机，确认 是否被盗，小偷是否还在现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5" descr="22851217363481468"/>
          <p:cNvPicPr/>
          <p:nvPr/>
        </p:nvPicPr>
        <p:blipFill>
          <a:blip r:embed="rId1"/>
          <a:srcRect l="0" t="0" r="0" b="11455"/>
          <a:stretch/>
        </p:blipFill>
        <p:spPr>
          <a:xfrm>
            <a:off x="971640" y="3419640"/>
            <a:ext cx="4032000" cy="258444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7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"/>
          <p:cNvSpPr/>
          <p:nvPr/>
        </p:nvSpPr>
        <p:spPr>
          <a:xfrm>
            <a:off x="4419720" y="29066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1" descr="145998409490765378"/>
          <p:cNvPicPr/>
          <p:nvPr/>
        </p:nvPicPr>
        <p:blipFill>
          <a:blip r:embed="rId2"/>
          <a:stretch/>
        </p:blipFill>
        <p:spPr>
          <a:xfrm>
            <a:off x="5003640" y="3419640"/>
            <a:ext cx="3962520" cy="26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8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65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情景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清晨，公交车上十分拥挤，有座位的人则在颠簸的车内昏昏欲睡。公交到站停车，一名男子碰撞了一名睡着的乘客后匆匆下车。睡着的乘客还未察觉自己的钱包手机已经被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情景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一名戴着耳机的女子走在拥挤的街道上，突然感觉口袋一沉，扭头一看，身后一名男子正将手从自己的外衣口袋中抽出，并且大摇大摆地从女子旁边走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情景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公交站台，人群拥挤。车子到站，争抢上车。一名男子在上车的人潮中反向挤出，并迅速消失。上车后，某乘客才发现自己的手机已经丢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述案件时刻在我们的身边发生，我们应该如何预防盗抢案件的发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夜里，男生宿舍睡觉没有关好宿舍门，半夜盗贼入室偷盗，小李同学没睡着，意识到盗贼应该带凶器入室，不敢声张，假装睡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5" descr="U10135P115DT20141107114242"/>
          <p:cNvPicPr/>
          <p:nvPr/>
        </p:nvPicPr>
        <p:blipFill>
          <a:blip r:embed="rId1"/>
          <a:stretch/>
        </p:blipFill>
        <p:spPr>
          <a:xfrm>
            <a:off x="1116000" y="2771640"/>
            <a:ext cx="35272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77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0" dur="770" fill="hold"/>
                                        <p:tgtEl>
                                          <p:spTgt spid="7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77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宿舍晚上不关好门窗，给盗贼可乘之机。宿舍环境特殊，发动身边同学比较容易捉拿盗贼，小李不敢声张，丧失捉拿盗贼的时机。宿舍中贵重物品不能随意乱放，贵重物品应入柜上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" descr="3961137_977514"/>
          <p:cNvPicPr/>
          <p:nvPr/>
        </p:nvPicPr>
        <p:blipFill>
          <a:blip r:embed="rId1"/>
          <a:srcRect l="0" t="0" r="0" b="15396"/>
          <a:stretch/>
        </p:blipFill>
        <p:spPr>
          <a:xfrm>
            <a:off x="971640" y="3492360"/>
            <a:ext cx="419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看防盗抢宣传片，利用教室设施，排演盗抢场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3" descr="344750861_1767062327"/>
          <p:cNvPicPr/>
          <p:nvPr/>
        </p:nvPicPr>
        <p:blipFill>
          <a:blip r:embed="rId1"/>
          <a:stretch/>
        </p:blipFill>
        <p:spPr>
          <a:xfrm>
            <a:off x="1332000" y="2581200"/>
            <a:ext cx="410508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7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8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拟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在住宅、校园内是否遭遇过盗抢？今后将如何正确保管自己的财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5" descr="991864c0d4b55ef7"/>
          <p:cNvPicPr/>
          <p:nvPr/>
        </p:nvPicPr>
        <p:blipFill>
          <a:blip r:embed="rId1"/>
          <a:stretch/>
        </p:blipFill>
        <p:spPr>
          <a:xfrm>
            <a:off x="3059280" y="2789280"/>
            <a:ext cx="1839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图片 21" descr="康轩标志.png"/>
          <p:cNvPicPr/>
          <p:nvPr/>
        </p:nvPicPr>
        <p:blipFill>
          <a:blip r:embed="rId3"/>
          <a:stretch/>
        </p:blipFill>
        <p:spPr>
          <a:xfrm>
            <a:off x="-6480" y="0"/>
            <a:ext cx="1285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26504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盗贼最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交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群拥挤，人们警惕性较低，为盗贼提供作案良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WordArt 8"/>
          <p:cNvSpPr txBox="1"/>
          <p:nvPr/>
        </p:nvSpPr>
        <p:spPr>
          <a:xfrm>
            <a:off x="1143000" y="205092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为什么盗贼喜欢在公交车上作案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5" name="Picture 10" descr="11287265_993077"/>
          <p:cNvPicPr/>
          <p:nvPr/>
        </p:nvPicPr>
        <p:blipFill>
          <a:blip r:embed="rId1"/>
          <a:stretch/>
        </p:blipFill>
        <p:spPr>
          <a:xfrm>
            <a:off x="914400" y="3191040"/>
            <a:ext cx="46450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盗贼最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交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贼常用的伎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4"/>
          <p:cNvGrpSpPr/>
          <p:nvPr/>
        </p:nvGrpSpPr>
        <p:grpSpPr>
          <a:xfrm>
            <a:off x="5076720" y="633240"/>
            <a:ext cx="3609720" cy="3763800"/>
            <a:chOff x="5076720" y="633240"/>
            <a:chExt cx="3609720" cy="3763800"/>
          </a:xfrm>
        </p:grpSpPr>
        <p:pic>
          <p:nvPicPr>
            <p:cNvPr id="619" name="Picture 11" descr="11170700_716827"/>
            <p:cNvPicPr/>
            <p:nvPr/>
          </p:nvPicPr>
          <p:blipFill>
            <a:blip r:embed="rId1"/>
            <a:stretch/>
          </p:blipFill>
          <p:spPr>
            <a:xfrm>
              <a:off x="5076720" y="633240"/>
              <a:ext cx="3609720" cy="31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Rectangle 13"/>
            <p:cNvSpPr/>
            <p:nvPr/>
          </p:nvSpPr>
          <p:spPr>
            <a:xfrm>
              <a:off x="5076720" y="3813120"/>
              <a:ext cx="3609720" cy="583920"/>
            </a:xfrm>
            <a:prstGeom prst="rect">
              <a:avLst/>
            </a:prstGeom>
            <a:solidFill>
              <a:srgbClr val="cf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掩护：由一人分散乘客注意力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其他同伙伺机下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826920" y="2516040"/>
            <a:ext cx="3749760" cy="3160800"/>
            <a:chOff x="826920" y="2516040"/>
            <a:chExt cx="3749760" cy="3160800"/>
          </a:xfrm>
        </p:grpSpPr>
        <p:sp>
          <p:nvSpPr>
            <p:cNvPr id="622" name="Rectangle 12"/>
            <p:cNvSpPr/>
            <p:nvPr/>
          </p:nvSpPr>
          <p:spPr>
            <a:xfrm>
              <a:off x="826920" y="5192640"/>
              <a:ext cx="3749760" cy="484200"/>
            </a:xfrm>
            <a:prstGeom prst="rect">
              <a:avLst/>
            </a:prstGeom>
            <a:solidFill>
              <a:srgbClr val="cf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抢门：上车时拼命往前挤，手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机伸进乘客口袋或提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17" descr="1444456671904"/>
            <p:cNvPicPr/>
            <p:nvPr/>
          </p:nvPicPr>
          <p:blipFill>
            <a:blip r:embed="rId2"/>
            <a:stretch/>
          </p:blipFill>
          <p:spPr>
            <a:xfrm>
              <a:off x="826920" y="2516040"/>
              <a:ext cx="3749760" cy="267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盗贼最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交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贼常用的伎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457200" y="1265400"/>
            <a:ext cx="3887280" cy="3625200"/>
            <a:chOff x="457200" y="1265400"/>
            <a:chExt cx="3887280" cy="3625200"/>
          </a:xfrm>
        </p:grpSpPr>
        <p:pic>
          <p:nvPicPr>
            <p:cNvPr id="627" name="Picture 8" descr="1444456671277"/>
            <p:cNvPicPr/>
            <p:nvPr/>
          </p:nvPicPr>
          <p:blipFill>
            <a:blip r:embed="rId1"/>
            <a:stretch/>
          </p:blipFill>
          <p:spPr>
            <a:xfrm>
              <a:off x="457200" y="1265400"/>
              <a:ext cx="3887280" cy="36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9"/>
            <p:cNvSpPr/>
            <p:nvPr/>
          </p:nvSpPr>
          <p:spPr>
            <a:xfrm>
              <a:off x="3532320" y="4586040"/>
              <a:ext cx="812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6"/>
          <p:cNvGrpSpPr/>
          <p:nvPr/>
        </p:nvGrpSpPr>
        <p:grpSpPr>
          <a:xfrm>
            <a:off x="4788000" y="1265400"/>
            <a:ext cx="3671280" cy="3936240"/>
            <a:chOff x="4788000" y="1265400"/>
            <a:chExt cx="3671280" cy="3936240"/>
          </a:xfrm>
        </p:grpSpPr>
        <p:pic>
          <p:nvPicPr>
            <p:cNvPr id="630" name="Picture 14" descr="138871074452c60b58dad15"/>
            <p:cNvPicPr/>
            <p:nvPr/>
          </p:nvPicPr>
          <p:blipFill>
            <a:blip r:embed="rId2"/>
            <a:stretch/>
          </p:blipFill>
          <p:spPr>
            <a:xfrm>
              <a:off x="4788000" y="1265400"/>
              <a:ext cx="3671280" cy="32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5"/>
            <p:cNvSpPr/>
            <p:nvPr/>
          </p:nvSpPr>
          <p:spPr>
            <a:xfrm>
              <a:off x="4788000" y="4527000"/>
              <a:ext cx="3671280" cy="674640"/>
            </a:xfrm>
            <a:prstGeom prst="rect">
              <a:avLst/>
            </a:prstGeom>
            <a:solidFill>
              <a:srgbClr val="cf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下镊：用镊子伸进衣袋里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Rectangle 11"/>
          <p:cNvSpPr/>
          <p:nvPr/>
        </p:nvSpPr>
        <p:spPr>
          <a:xfrm>
            <a:off x="457200" y="4737240"/>
            <a:ext cx="3887640" cy="728640"/>
          </a:xfrm>
          <a:prstGeom prst="rect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背扒：背靠背站立，手向后伸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乘客后裤袋或背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7"/>
          <p:cNvGrpSpPr/>
          <p:nvPr/>
        </p:nvGrpSpPr>
        <p:grpSpPr>
          <a:xfrm>
            <a:off x="457200" y="1265400"/>
            <a:ext cx="3887280" cy="3471480"/>
            <a:chOff x="457200" y="1265400"/>
            <a:chExt cx="3887280" cy="3471480"/>
          </a:xfrm>
        </p:grpSpPr>
        <p:pic>
          <p:nvPicPr>
            <p:cNvPr id="634" name="Picture 18" descr="1444456671277"/>
            <p:cNvPicPr/>
            <p:nvPr/>
          </p:nvPicPr>
          <p:blipFill>
            <a:blip r:embed="rId3"/>
            <a:stretch/>
          </p:blipFill>
          <p:spPr>
            <a:xfrm>
              <a:off x="457200" y="1265400"/>
              <a:ext cx="3887280" cy="34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19"/>
            <p:cNvSpPr/>
            <p:nvPr/>
          </p:nvSpPr>
          <p:spPr>
            <a:xfrm>
              <a:off x="3532320" y="4445280"/>
              <a:ext cx="81216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认识盗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盗贼数量最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众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众场合人多且杂，盗贼团伙作案，相互协作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9"/>
          <p:cNvSpPr txBox="1"/>
          <p:nvPr/>
        </p:nvSpPr>
        <p:spPr>
          <a:xfrm>
            <a:off x="684360" y="2050920"/>
            <a:ext cx="80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为什么盗贼喜欢在公众场所作案的原因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7"/>
          <p:cNvGrpSpPr/>
          <p:nvPr/>
        </p:nvGrpSpPr>
        <p:grpSpPr>
          <a:xfrm>
            <a:off x="4861080" y="244440"/>
            <a:ext cx="3809880" cy="2600280"/>
            <a:chOff x="4861080" y="244440"/>
            <a:chExt cx="3809880" cy="2600280"/>
          </a:xfrm>
        </p:grpSpPr>
        <p:pic>
          <p:nvPicPr>
            <p:cNvPr id="642" name="Picture 5" descr="t01c1004f9f07b2c5df"/>
            <p:cNvPicPr/>
            <p:nvPr/>
          </p:nvPicPr>
          <p:blipFill>
            <a:blip r:embed="rId1"/>
            <a:stretch/>
          </p:blipFill>
          <p:spPr>
            <a:xfrm>
              <a:off x="4861080" y="244440"/>
              <a:ext cx="3809880" cy="26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6"/>
            <p:cNvSpPr/>
            <p:nvPr/>
          </p:nvSpPr>
          <p:spPr>
            <a:xfrm>
              <a:off x="5159520" y="244440"/>
              <a:ext cx="129528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车站盗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1"/>
          <p:cNvGrpSpPr/>
          <p:nvPr/>
        </p:nvGrpSpPr>
        <p:grpSpPr>
          <a:xfrm>
            <a:off x="900000" y="2544840"/>
            <a:ext cx="3095640" cy="3574800"/>
            <a:chOff x="900000" y="2544840"/>
            <a:chExt cx="3095640" cy="3574800"/>
          </a:xfrm>
        </p:grpSpPr>
        <p:pic>
          <p:nvPicPr>
            <p:cNvPr id="645" name="Picture 9" descr="xinsrc_4130409250954125304513"/>
            <p:cNvPicPr/>
            <p:nvPr/>
          </p:nvPicPr>
          <p:blipFill>
            <a:blip r:embed="rId2"/>
            <a:stretch/>
          </p:blipFill>
          <p:spPr>
            <a:xfrm>
              <a:off x="900000" y="2544840"/>
              <a:ext cx="3095640" cy="35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10"/>
            <p:cNvSpPr/>
            <p:nvPr/>
          </p:nvSpPr>
          <p:spPr>
            <a:xfrm>
              <a:off x="2277360" y="5251320"/>
              <a:ext cx="17179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医院盗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5"/>
          <p:cNvGrpSpPr/>
          <p:nvPr/>
        </p:nvGrpSpPr>
        <p:grpSpPr>
          <a:xfrm>
            <a:off x="444600" y="244440"/>
            <a:ext cx="4416480" cy="2454480"/>
            <a:chOff x="444600" y="244440"/>
            <a:chExt cx="4416480" cy="2454480"/>
          </a:xfrm>
        </p:grpSpPr>
        <p:pic>
          <p:nvPicPr>
            <p:cNvPr id="648" name="Picture 13" descr="20140903172648"/>
            <p:cNvPicPr/>
            <p:nvPr/>
          </p:nvPicPr>
          <p:blipFill>
            <a:blip r:embed="rId3"/>
            <a:stretch/>
          </p:blipFill>
          <p:spPr>
            <a:xfrm>
              <a:off x="444600" y="244440"/>
              <a:ext cx="441648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14"/>
            <p:cNvSpPr/>
            <p:nvPr/>
          </p:nvSpPr>
          <p:spPr>
            <a:xfrm>
              <a:off x="585000" y="871560"/>
              <a:ext cx="66096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9"/>
          <p:cNvGrpSpPr/>
          <p:nvPr/>
        </p:nvGrpSpPr>
        <p:grpSpPr>
          <a:xfrm>
            <a:off x="4552920" y="2844720"/>
            <a:ext cx="4133880" cy="2990880"/>
            <a:chOff x="4552920" y="2844720"/>
            <a:chExt cx="4133880" cy="2990880"/>
          </a:xfrm>
        </p:grpSpPr>
        <p:pic>
          <p:nvPicPr>
            <p:cNvPr id="651" name="Picture 17" descr="t01eb1969b4f78f3d2e"/>
            <p:cNvPicPr/>
            <p:nvPr/>
          </p:nvPicPr>
          <p:blipFill>
            <a:blip r:embed="rId4"/>
            <a:stretch/>
          </p:blipFill>
          <p:spPr>
            <a:xfrm>
              <a:off x="4552920" y="2844720"/>
              <a:ext cx="413388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18"/>
            <p:cNvSpPr/>
            <p:nvPr/>
          </p:nvSpPr>
          <p:spPr>
            <a:xfrm>
              <a:off x="4552920" y="3900600"/>
              <a:ext cx="666720" cy="19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庆期间，小徐在一家精品店挑选礼物。突然，身边一位打扮考究的中年男子对小徐说：“你踩到我的东西了。”小徐低头、抬脚，脚下空无一物。他疑惑地准备询问中年男子，却发现该男子已经离开。当准备掏钱买东西时，小徐才发现口袋中的钱包已经不翼而飞，此时才察觉到被偷了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WordArt 4"/>
          <p:cNvSpPr txBox="1"/>
          <p:nvPr/>
        </p:nvSpPr>
        <p:spPr>
          <a:xfrm>
            <a:off x="914400" y="4140360"/>
            <a:ext cx="77724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从案例中我们能够吸取到什么教训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cp:keywords/>
  <dc:language>en-US</dc:language>
  <cp:lastModifiedBy>m1508027</cp:lastModifiedBy>
  <dcterms:modified xsi:type="dcterms:W3CDTF">2016-07-12T05:28:00Z</dcterms:modified>
  <cp:revision>6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